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6D6-24B1-40A1-8C83-89BDAEEA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7BE-313C-4372-BF72-B1ACAE20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6A4-048C-4A4A-A448-1E23F3BE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1B7-D455-4923-AF58-66ABFA7A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D5EF-D48D-4067-AD16-8E8127D0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8EA2-0A60-4D4E-97D0-4FD7AC3A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F61F-3A40-4B34-AAA0-BF77FF85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CFAC-89E9-4838-97B7-1DFA2A16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8032-5DB7-495D-9F1E-5A9293F7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0588-1E6E-4DDD-926D-D8DC2E7E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C3C0-F230-456F-AEFB-44DECF8D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BFA-982B-4D74-91ED-98D8499C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20A9-16F4-4285-938C-6E2F537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84A9-013A-4A73-B1AB-9CF092C2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8726-B25D-478C-BCFD-E633301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487E-0EF5-442C-B6C0-D695FA8E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6C14-2647-4D12-8D6A-AA1CBD5B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3539-B81F-4E05-A882-045FADC6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42A9-7256-40BE-BBE7-7210DD0E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2790-5CB7-4B9F-A46E-E6897FA3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3BFF8-064F-4760-8774-BFC748EC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B4C3E-8ABF-40EC-B8F8-78BE9BA6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777-EDC4-45A9-AFB4-37CF9A68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2A3E-3A72-4F6E-85BE-5D09DBA8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6A90-4682-40E8-9E16-73E39056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D98D-EE92-40A8-A02A-D3DF37DC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5F6D-25A8-4A3C-ABFC-0627B7C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7844-0733-4017-924A-65F4B823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AB47-4738-4CC1-9FE0-9DE6936B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7C7B-47C0-43F4-8662-7FFDACF4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2CF96-57AD-4D71-82C4-21FF5BF7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8091-2676-4C2F-B493-BBE4319D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42C77-F4BE-4C7D-A2E6-450405F5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579-B033-45B4-ACF6-0404A92C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AE5D-CC98-4C44-9C2C-B3F7A43C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3421B-B323-42A9-9892-C6A18A0D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CB690-E145-4116-9EC7-FED88767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EAED8-4EF5-4BEC-961A-A7B71FC2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A755B-8675-412F-ACCC-0B5CCB70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9E17-C562-4978-BE7D-8BEE597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61452-3112-4B07-ADC8-3A82F24D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6978-5B96-44F0-BFDD-6EE04B61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20A3F-0A88-4294-B844-DDF01398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CA816-BF3A-4D6B-990C-28862FD7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440-4D5C-4385-97B7-5B6C45E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BB38B-230F-4130-B5C5-0DAE569C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15D3A-34AF-457F-B4A3-AD6C707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268E-BAE6-4DED-A676-740BA29D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3BC26-30E9-437D-96A7-38AC654F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8E77D-BD97-4AB4-AC1A-E0BF0455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87AE-1F79-461E-90B7-E8FC36D5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DE1CF-9B08-42DA-9FF6-3BD07A3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926D-9187-4369-B05A-1B356E3E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F7838-56C8-4883-96EA-F1A07114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11EE-0E51-4255-B278-BA74723C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12A-894D-4CF3-8996-A2051133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3E6D6-EA51-434C-A25D-423A5FBC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5B7-B602-48A0-8C8F-A584ECA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511-5C5E-47F0-904A-D55D335E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D12-6C04-45D4-9555-1AEDCA5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76BC-829F-47D3-8632-FE49B847C09C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ostokąt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Prostokąt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Łącznik prosty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B297-1412-4CEE-A87B-0D852AC36140}" type="slidenum">
              <a:rPr b="0" lang="pl-PL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5788-62FA-4814-8B95-9FA5B4AD4BBE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2942-04F5-443E-97BD-5437A892FB19}" type="slidenum">
              <a:rPr b="0" lang="pl-PL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9647-ED6B-411A-AB1C-1F0D3D63E73A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rebuchet MS"/>
              </a:rPr>
              <a:t>Skuteczne przekazywanie informacj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ytuł 1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7381800" cy="1238400"/>
          </a:xfrm>
          <a:prstGeom prst="rect">
            <a:avLst/>
          </a:prstGeom>
          <a:ln w="0">
            <a:noFill/>
          </a:ln>
        </p:spPr>
      </p:pic>
      <p:pic>
        <p:nvPicPr>
          <p:cNvPr id="223" name="Symbol zastępczy zawartości 3" descr=""/>
          <p:cNvPicPr/>
          <p:nvPr/>
        </p:nvPicPr>
        <p:blipFill>
          <a:blip r:embed="rId2"/>
          <a:stretch/>
        </p:blipFill>
        <p:spPr>
          <a:xfrm>
            <a:off x="2414520" y="835200"/>
            <a:ext cx="5510160" cy="577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MK\Ustawienia lokalne\Temporary Internet Files\Content.IE5\RNQRUGPE\MP900430530[1].jpg"/>
          <p:cNvPicPr/>
          <p:nvPr/>
        </p:nvPicPr>
        <p:blipFill>
          <a:blip r:embed="rId3"/>
          <a:stretch/>
        </p:blipFill>
        <p:spPr>
          <a:xfrm>
            <a:off x="422280" y="2762280"/>
            <a:ext cx="1765440" cy="117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MK\Ustawienia lokalne\Temporary Internet Files\Content.IE5\I715L005\MP900439397[1].jpg"/>
          <p:cNvPicPr/>
          <p:nvPr/>
        </p:nvPicPr>
        <p:blipFill>
          <a:blip r:embed="rId4"/>
          <a:stretch/>
        </p:blipFill>
        <p:spPr>
          <a:xfrm>
            <a:off x="433440" y="909720"/>
            <a:ext cx="1762200" cy="1176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Documents and Settings\MK\Ustawienia lokalne\Temporary Internet Files\Content.IE5\RNQRUGPE\MP900386353[1].jpg"/>
          <p:cNvPicPr/>
          <p:nvPr/>
        </p:nvPicPr>
        <p:blipFill>
          <a:blip r:embed="rId5"/>
          <a:stretch/>
        </p:blipFill>
        <p:spPr>
          <a:xfrm>
            <a:off x="468360" y="4581360"/>
            <a:ext cx="1763640" cy="117000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8"/>
          <p:cNvSpPr/>
          <p:nvPr/>
        </p:nvSpPr>
        <p:spPr>
          <a:xfrm>
            <a:off x="395280" y="5805360"/>
            <a:ext cx="22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Do dzieła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9"/>
          <p:cNvSpPr/>
          <p:nvPr/>
        </p:nvSpPr>
        <p:spPr>
          <a:xfrm>
            <a:off x="324000" y="2133720"/>
            <a:ext cx="23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Planuje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0"/>
          <p:cNvSpPr/>
          <p:nvPr/>
        </p:nvSpPr>
        <p:spPr>
          <a:xfrm>
            <a:off x="431280" y="3959280"/>
            <a:ext cx="19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Jeden obraz to tysiąc słó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upa 24"/>
          <p:cNvGrpSpPr/>
          <p:nvPr/>
        </p:nvGrpSpPr>
        <p:grpSpPr>
          <a:xfrm>
            <a:off x="468360" y="1413000"/>
            <a:ext cx="3166920" cy="2160360"/>
            <a:chOff x="468360" y="1413000"/>
            <a:chExt cx="3166920" cy="2160360"/>
          </a:xfrm>
        </p:grpSpPr>
        <p:sp>
          <p:nvSpPr>
            <p:cNvPr id="232" name="pole tekstowe 5"/>
            <p:cNvSpPr/>
            <p:nvPr/>
          </p:nvSpPr>
          <p:spPr>
            <a:xfrm>
              <a:off x="468360" y="1413000"/>
              <a:ext cx="3166920" cy="216036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Cel prezent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3" descr="C:\Documents and Settings\MK\Ustawienia lokalne\Temporary Internet Files\Content.IE5\3JSHBOGL\MP900431735[1].jpg"/>
            <p:cNvPicPr/>
            <p:nvPr/>
          </p:nvPicPr>
          <p:blipFill>
            <a:blip r:embed="rId2"/>
            <a:stretch/>
          </p:blipFill>
          <p:spPr>
            <a:xfrm>
              <a:off x="2339640" y="2205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" descr="C:\Documents and Settings\MK\Ustawienia lokalne\Temporary Internet Files\Content.IE5\AUXUKJDN\MP900386406[1].jpg"/>
            <p:cNvPicPr/>
            <p:nvPr/>
          </p:nvPicPr>
          <p:blipFill>
            <a:blip r:embed="rId3"/>
            <a:stretch/>
          </p:blipFill>
          <p:spPr>
            <a:xfrm>
              <a:off x="1260000" y="1869120"/>
              <a:ext cx="1197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" descr="C:\Documents and Settings\MK\Ustawienia lokalne\Temporary Internet Files\Content.IE5\RNQRUGPE\MP900400225[1].jpg"/>
            <p:cNvPicPr/>
            <p:nvPr/>
          </p:nvPicPr>
          <p:blipFill>
            <a:blip r:embed="rId4"/>
            <a:stretch/>
          </p:blipFill>
          <p:spPr>
            <a:xfrm>
              <a:off x="540000" y="2277000"/>
              <a:ext cx="978480" cy="12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upa 25"/>
          <p:cNvGrpSpPr/>
          <p:nvPr/>
        </p:nvGrpSpPr>
        <p:grpSpPr>
          <a:xfrm>
            <a:off x="468360" y="3860640"/>
            <a:ext cx="3166920" cy="2160720"/>
            <a:chOff x="468360" y="3860640"/>
            <a:chExt cx="3166920" cy="2160720"/>
          </a:xfrm>
        </p:grpSpPr>
        <p:sp>
          <p:nvSpPr>
            <p:cNvPr id="237" name="pole tekstowe 6"/>
            <p:cNvSpPr/>
            <p:nvPr/>
          </p:nvSpPr>
          <p:spPr>
            <a:xfrm>
              <a:off x="468360" y="3860640"/>
              <a:ext cx="3166920" cy="216072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Odbior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1" descr="C:\Documents and Settings\MK\Ustawienia lokalne\Temporary Internet Files\Content.IE5\I715L005\MP900422581[1].jpg"/>
            <p:cNvPicPr/>
            <p:nvPr/>
          </p:nvPicPr>
          <p:blipFill>
            <a:blip r:embed="rId5"/>
            <a:stretch/>
          </p:blipFill>
          <p:spPr>
            <a:xfrm>
              <a:off x="2052000" y="4220640"/>
              <a:ext cx="1563840" cy="12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2" descr="C:\Documents and Settings\MK\Ustawienia lokalne\Temporary Internet Files\Content.IE5\3JSHBOGL\MP900409652[1].jpg"/>
            <p:cNvPicPr/>
            <p:nvPr/>
          </p:nvPicPr>
          <p:blipFill>
            <a:blip r:embed="rId6"/>
            <a:stretch/>
          </p:blipFill>
          <p:spPr>
            <a:xfrm>
              <a:off x="1260000" y="4797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9" descr="C:\Documents and Settings\MK\Ustawienia lokalne\Temporary Internet Files\Content.IE5\AUXUKJDN\MP900439399[1].jpg"/>
            <p:cNvPicPr/>
            <p:nvPr/>
          </p:nvPicPr>
          <p:blipFill>
            <a:blip r:embed="rId7"/>
            <a:stretch/>
          </p:blipFill>
          <p:spPr>
            <a:xfrm>
              <a:off x="540000" y="4220640"/>
              <a:ext cx="935640" cy="140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Strzałka w prawo 18"/>
          <p:cNvSpPr/>
          <p:nvPr/>
        </p:nvSpPr>
        <p:spPr>
          <a:xfrm>
            <a:off x="3780000" y="4437000"/>
            <a:ext cx="1079280" cy="863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19"/>
          <p:cNvSpPr/>
          <p:nvPr/>
        </p:nvSpPr>
        <p:spPr>
          <a:xfrm>
            <a:off x="5148360" y="2128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ilość tekstu na slajd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20"/>
          <p:cNvSpPr/>
          <p:nvPr/>
        </p:nvSpPr>
        <p:spPr>
          <a:xfrm>
            <a:off x="5148360" y="17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liczbę slajd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1"/>
          <p:cNvSpPr/>
          <p:nvPr/>
        </p:nvSpPr>
        <p:spPr>
          <a:xfrm>
            <a:off x="5076720" y="4286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łownic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23"/>
          <p:cNvSpPr/>
          <p:nvPr/>
        </p:nvSpPr>
        <p:spPr>
          <a:xfrm>
            <a:off x="5076720" y="47912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kres trudn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załka w prawo 26"/>
          <p:cNvSpPr/>
          <p:nvPr/>
        </p:nvSpPr>
        <p:spPr>
          <a:xfrm>
            <a:off x="3851280" y="2205000"/>
            <a:ext cx="1081080" cy="8636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27"/>
          <p:cNvSpPr/>
          <p:nvPr/>
        </p:nvSpPr>
        <p:spPr>
          <a:xfrm>
            <a:off x="5076720" y="5373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grafi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8"/>
          <p:cNvSpPr/>
          <p:nvPr/>
        </p:nvSpPr>
        <p:spPr>
          <a:xfrm>
            <a:off x="5183280" y="26128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rodzaj i szybkość ani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32" descr="Obraz3.jpg"/>
          <p:cNvPicPr/>
          <p:nvPr/>
        </p:nvPicPr>
        <p:blipFill>
          <a:blip r:embed="rId8"/>
          <a:stretch/>
        </p:blipFill>
        <p:spPr>
          <a:xfrm>
            <a:off x="8151840" y="68400"/>
            <a:ext cx="1011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pic>
        <p:nvPicPr>
          <p:cNvPr id="251" name="Obraz 3" descr="Obraz4.jpg"/>
          <p:cNvPicPr/>
          <p:nvPr/>
        </p:nvPicPr>
        <p:blipFill>
          <a:blip r:embed="rId2"/>
          <a:stretch/>
        </p:blipFill>
        <p:spPr>
          <a:xfrm>
            <a:off x="8153280" y="1440"/>
            <a:ext cx="1011240" cy="20592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4"/>
          <p:cNvSpPr/>
          <p:nvPr/>
        </p:nvSpPr>
        <p:spPr>
          <a:xfrm>
            <a:off x="179280" y="1484280"/>
            <a:ext cx="4032360" cy="2449440"/>
          </a:xfrm>
          <a:prstGeom prst="rect">
            <a:avLst/>
          </a:prstGeom>
          <a:noFill/>
          <a:ln w="28440">
            <a:solidFill>
              <a:srgbClr val="f9b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bierz rodzaj motywu oraz kolorystykę i stosuj je konsekwent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ole tekstowe 5"/>
          <p:cNvSpPr/>
          <p:nvPr/>
        </p:nvSpPr>
        <p:spPr>
          <a:xfrm>
            <a:off x="179280" y="4076640"/>
            <a:ext cx="4032360" cy="2376720"/>
          </a:xfrm>
          <a:prstGeom prst="rect">
            <a:avLst/>
          </a:prstGeom>
          <a:noFill/>
          <a:ln w="2844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anów się, w  jaki prosty sposób można zobrazować tre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ole tekstowe 6"/>
          <p:cNvSpPr/>
          <p:nvPr/>
        </p:nvSpPr>
        <p:spPr>
          <a:xfrm>
            <a:off x="4427640" y="1484280"/>
            <a:ext cx="3600360" cy="4969080"/>
          </a:xfrm>
          <a:prstGeom prst="rect">
            <a:avLst/>
          </a:prstGeom>
          <a:noFill/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osuj pomoce graf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mar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re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Kształ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dję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7385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4"/>
          <a:stretch/>
        </p:blipFill>
        <p:spPr>
          <a:xfrm>
            <a:off x="3094200" y="2205000"/>
            <a:ext cx="98568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5"/>
          <a:stretch/>
        </p:blipFill>
        <p:spPr>
          <a:xfrm>
            <a:off x="4716360" y="4221000"/>
            <a:ext cx="19432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258" name="Grupa 19"/>
          <p:cNvGrpSpPr/>
          <p:nvPr/>
        </p:nvGrpSpPr>
        <p:grpSpPr>
          <a:xfrm>
            <a:off x="5651640" y="1951200"/>
            <a:ext cx="2286000" cy="2269800"/>
            <a:chOff x="5651640" y="1951200"/>
            <a:chExt cx="2286000" cy="2269800"/>
          </a:xfrm>
        </p:grpSpPr>
        <p:pic>
          <p:nvPicPr>
            <p:cNvPr id="259" name="Picture 4" descr=""/>
            <p:cNvPicPr/>
            <p:nvPr/>
          </p:nvPicPr>
          <p:blipFill>
            <a:blip r:embed="rId6"/>
            <a:stretch/>
          </p:blipFill>
          <p:spPr>
            <a:xfrm>
              <a:off x="5717160" y="1951200"/>
              <a:ext cx="219276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Diagram 12" descr=""/>
            <p:cNvPicPr/>
            <p:nvPr/>
          </p:nvPicPr>
          <p:blipFill>
            <a:blip r:embed="rId7"/>
            <a:stretch/>
          </p:blipFill>
          <p:spPr>
            <a:xfrm>
              <a:off x="6611040" y="3204000"/>
              <a:ext cx="132660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Diagram 13" descr=""/>
            <p:cNvPicPr/>
            <p:nvPr/>
          </p:nvPicPr>
          <p:blipFill>
            <a:blip r:embed="rId8"/>
            <a:stretch/>
          </p:blipFill>
          <p:spPr>
            <a:xfrm>
              <a:off x="5651640" y="3264480"/>
              <a:ext cx="1178640" cy="92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upa 21"/>
          <p:cNvGrpSpPr/>
          <p:nvPr/>
        </p:nvGrpSpPr>
        <p:grpSpPr>
          <a:xfrm>
            <a:off x="5842080" y="5694480"/>
            <a:ext cx="1944720" cy="696600"/>
            <a:chOff x="5842080" y="5694480"/>
            <a:chExt cx="1944720" cy="696600"/>
          </a:xfrm>
        </p:grpSpPr>
        <p:sp>
          <p:nvSpPr>
            <p:cNvPr id="263" name="Strzałka kolista 17"/>
            <p:cNvSpPr/>
            <p:nvPr/>
          </p:nvSpPr>
          <p:spPr>
            <a:xfrm rot="10800000">
              <a:off x="6562440" y="5814720"/>
              <a:ext cx="647640" cy="576360"/>
            </a:xfrm>
            <a:custGeom>
              <a:avLst/>
              <a:gdLst/>
              <a:ahLst/>
              <a:rect l="l" t="t" r="r" b="b"/>
              <a:pathLst>
                <a:path w="647543" h="576201">
                  <a:moveTo>
                    <a:pt x="36013" y="288101"/>
                  </a:moveTo>
                  <a:cubicBezTo>
                    <a:pt x="36013" y="161135"/>
                    <a:pt x="143800" y="53983"/>
                    <a:pt x="287581" y="38015"/>
                  </a:cubicBezTo>
                  <a:cubicBezTo>
                    <a:pt x="423451" y="22925"/>
                    <a:pt x="552635" y="93817"/>
                    <a:pt x="596426" y="207499"/>
                  </a:cubicBezTo>
                  <a:lnTo>
                    <a:pt x="629372" y="207498"/>
                  </a:lnTo>
                  <a:lnTo>
                    <a:pt x="575518" y="288100"/>
                  </a:lnTo>
                  <a:lnTo>
                    <a:pt x="485321" y="207498"/>
                  </a:lnTo>
                  <a:lnTo>
                    <a:pt x="516684" y="207498"/>
                  </a:lnTo>
                  <a:cubicBezTo>
                    <a:pt x="474282" y="136800"/>
                    <a:pt x="381587" y="97458"/>
                    <a:pt x="288162" y="110508"/>
                  </a:cubicBezTo>
                  <a:cubicBezTo>
                    <a:pt x="184203" y="125029"/>
                    <a:pt x="108037" y="200125"/>
                    <a:pt x="108037" y="288101"/>
                  </a:cubicBezTo>
                  <a:lnTo>
                    <a:pt x="36013" y="288101"/>
                  </a:lnTo>
                  <a:close/>
                </a:path>
              </a:pathLst>
            </a:custGeom>
            <a:solidFill>
              <a:srgbClr val="de6c36"/>
            </a:solidFill>
            <a:ln w="39960">
              <a:solidFill>
                <a:srgbClr val="b24d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upa 20"/>
            <p:cNvGrpSpPr/>
            <p:nvPr/>
          </p:nvGrpSpPr>
          <p:grpSpPr>
            <a:xfrm>
              <a:off x="5842080" y="5694480"/>
              <a:ext cx="1944720" cy="614520"/>
              <a:chOff x="5842080" y="5694480"/>
              <a:chExt cx="1944720" cy="614520"/>
            </a:xfrm>
          </p:grpSpPr>
          <p:sp>
            <p:nvSpPr>
              <p:cNvPr id="265" name="Pagon 15"/>
              <p:cNvSpPr/>
              <p:nvPr/>
            </p:nvSpPr>
            <p:spPr>
              <a:xfrm>
                <a:off x="5842080" y="5803920"/>
                <a:ext cx="647640" cy="50508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181" y="0"/>
                    </a:lnTo>
                    <a:lnTo>
                      <a:pt x="21600" y="10800"/>
                    </a:lnTo>
                    <a:lnTo>
                      <a:pt x="13181" y="21600"/>
                    </a:lnTo>
                    <a:lnTo>
                      <a:pt x="0" y="21600"/>
                    </a:lnTo>
                    <a:lnTo>
                      <a:pt x="8419" y="10800"/>
                    </a:lnTo>
                    <a:close/>
                  </a:path>
                </a:pathLst>
              </a:custGeom>
              <a:solidFill>
                <a:srgbClr val="f9b639"/>
              </a:solidFill>
              <a:ln w="39960">
                <a:solidFill>
                  <a:srgbClr val="df93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Strzałka kolista 16"/>
              <p:cNvSpPr/>
              <p:nvPr/>
            </p:nvSpPr>
            <p:spPr>
              <a:xfrm>
                <a:off x="6562800" y="5694480"/>
                <a:ext cx="647640" cy="576720"/>
              </a:xfrm>
              <a:custGeom>
                <a:avLst/>
                <a:gdLst/>
                <a:ahLst/>
                <a:rect l="l" t="t" r="r" b="b"/>
                <a:pathLst>
                  <a:path w="647543" h="576201">
                    <a:moveTo>
                      <a:pt x="36013" y="288101"/>
                    </a:moveTo>
                    <a:cubicBezTo>
                      <a:pt x="36013" y="161135"/>
                      <a:pt x="143800" y="53983"/>
                      <a:pt x="287581" y="38015"/>
                    </a:cubicBezTo>
                    <a:cubicBezTo>
                      <a:pt x="423451" y="22925"/>
                      <a:pt x="552635" y="93817"/>
                      <a:pt x="596426" y="207499"/>
                    </a:cubicBezTo>
                    <a:lnTo>
                      <a:pt x="629372" y="207498"/>
                    </a:lnTo>
                    <a:lnTo>
                      <a:pt x="575518" y="288100"/>
                    </a:lnTo>
                    <a:lnTo>
                      <a:pt x="485321" y="207498"/>
                    </a:lnTo>
                    <a:lnTo>
                      <a:pt x="516684" y="207498"/>
                    </a:lnTo>
                    <a:cubicBezTo>
                      <a:pt x="474282" y="136800"/>
                      <a:pt x="381587" y="97458"/>
                      <a:pt x="288162" y="110508"/>
                    </a:cubicBezTo>
                    <a:cubicBezTo>
                      <a:pt x="184203" y="125029"/>
                      <a:pt x="108037" y="200125"/>
                      <a:pt x="108037" y="288101"/>
                    </a:cubicBezTo>
                    <a:lnTo>
                      <a:pt x="36013" y="288101"/>
                    </a:lnTo>
                    <a:close/>
                  </a:path>
                </a:pathLst>
              </a:custGeom>
              <a:solidFill>
                <a:srgbClr val="de6c36"/>
              </a:solidFill>
              <a:ln w="39960">
                <a:solidFill>
                  <a:srgbClr val="b24d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Zagięty narożnik 18"/>
              <p:cNvSpPr/>
              <p:nvPr/>
            </p:nvSpPr>
            <p:spPr>
              <a:xfrm>
                <a:off x="7355160" y="5803920"/>
                <a:ext cx="431640" cy="433440"/>
              </a:xfrm>
              <a:prstGeom prst="foldedCorner">
                <a:avLst>
                  <a:gd name="adj" fmla="val 16666"/>
                </a:avLst>
              </a:prstGeom>
              <a:solidFill>
                <a:srgbClr val="cda3d6"/>
              </a:solidFill>
              <a:ln w="39960">
                <a:solidFill>
                  <a:srgbClr val="ac66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rostokąt 23"/>
          <p:cNvSpPr/>
          <p:nvPr/>
        </p:nvSpPr>
        <p:spPr>
          <a:xfrm>
            <a:off x="250920" y="5013360"/>
            <a:ext cx="16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rójkąt równoramienny 24"/>
          <p:cNvSpPr/>
          <p:nvPr/>
        </p:nvSpPr>
        <p:spPr>
          <a:xfrm rot="5400000">
            <a:off x="1691280" y="5301000"/>
            <a:ext cx="863640" cy="144720"/>
          </a:xfrm>
          <a:prstGeom prst="triangle">
            <a:avLst>
              <a:gd name="adj" fmla="val 50000"/>
            </a:avLst>
          </a:prstGeom>
          <a:solidFill>
            <a:srgbClr val="eba786"/>
          </a:solidFill>
          <a:ln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Łącznik prosty 26"/>
          <p:cNvSpPr/>
          <p:nvPr/>
        </p:nvSpPr>
        <p:spPr>
          <a:xfrm>
            <a:off x="39528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Łącznik prosty 27"/>
          <p:cNvSpPr/>
          <p:nvPr/>
        </p:nvSpPr>
        <p:spPr>
          <a:xfrm flipH="1">
            <a:off x="39492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Diagram 34" descr=""/>
          <p:cNvPicPr/>
          <p:nvPr/>
        </p:nvPicPr>
        <p:blipFill>
          <a:blip r:embed="rId9"/>
          <a:stretch/>
        </p:blipFill>
        <p:spPr>
          <a:xfrm>
            <a:off x="2468520" y="4797360"/>
            <a:ext cx="1481040" cy="136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MK\Ustawienia lokalne\Temporary Internet Files\Content.IE5\I715L005\MP900401828[1].jpg"/>
          <p:cNvPicPr/>
          <p:nvPr/>
        </p:nvPicPr>
        <p:blipFill>
          <a:blip r:embed="rId10"/>
          <a:stretch/>
        </p:blipFill>
        <p:spPr>
          <a:xfrm>
            <a:off x="6950160" y="4363920"/>
            <a:ext cx="718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645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Zachowaj przejrzystość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ie przesadzaj z ilością tekstu i animacji na slajdach, aby odbiorca nie czuł się przytłoczony nadmiarem inform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opracuj szczegóły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osuj jednolite czcionki i wyrównaj obrazy – różne czcionki i nierówno ustawione rysunki przeszkadzają w odbiorze i podważają profesjonalizm prezent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Usuń bękar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Do przeniesienia spójników pozostających na końcu wiersza, stosuj ręczny podział wiersza (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Shift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Enter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baj o rozmiar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24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kompresuj prezentację, jeśli zawiera dużo grafiki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76" name="Obraz 3" descr="Obraz5.jpg"/>
          <p:cNvPicPr/>
          <p:nvPr/>
        </p:nvPicPr>
        <p:blipFill>
          <a:blip r:embed="rId2"/>
          <a:stretch/>
        </p:blipFill>
        <p:spPr>
          <a:xfrm>
            <a:off x="8153280" y="-7920"/>
            <a:ext cx="1009800" cy="2058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9"/>
          <p:cNvSpPr/>
          <p:nvPr/>
        </p:nvSpPr>
        <p:spPr>
          <a:xfrm rot="1207800">
            <a:off x="6371640" y="19047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b13f9a"/>
                </a:solidFill>
                <a:latin typeface="Arial"/>
              </a:rPr>
              <a:t>Mniej znaczy więcej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 rot="1207800">
            <a:off x="6235560" y="439848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Shift</a:t>
            </a:r>
            <a:r>
              <a:rPr b="0" lang="pl-PL" sz="1400" spc="-1" strike="noStrike">
                <a:solidFill>
                  <a:srgbClr val="b13f9a"/>
                </a:solidFill>
                <a:latin typeface="Arial"/>
              </a:rPr>
              <a:t>+</a:t>
            </a: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2:28:09Z</dcterms:created>
  <dc:creator>Twoja nazwa użytkownika</dc:creator>
  <dc:description/>
  <dc:language>en-US</dc:language>
  <cp:lastModifiedBy>MK</cp:lastModifiedBy>
  <dcterms:modified xsi:type="dcterms:W3CDTF">2013-04-23T19:34:22Z</dcterms:modified>
  <cp:revision>68</cp:revision>
  <dc:subject/>
  <dc:title>Tworzenie prezentacji</dc:title>
</cp:coreProperties>
</file>